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EB5-9141-496E-A95F-35722248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1D1-176E-440A-B590-66925818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D07-BDDE-41C6-BC89-619048DD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6CD-409A-404C-A216-870DF2E9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701-8B23-4119-B1C3-15B960A4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640-0615-4E29-B2C7-58BCC06C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CB7-6E96-418D-85BC-CFF59394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E5E-08E5-40B3-B911-1ACF636A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218-5F65-453A-A29D-0B316031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BB3-825D-4A0F-979D-06411EA8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DF4-725C-43A2-AB07-3AB686AD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846-0C7C-4033-A5A1-13AB50FF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02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R04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R02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R04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R01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C21B-2C0B-4B5A-8EB4-B89EABAEC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ff"/>
                </a:solidFill>
                <a:latin typeface="Times New Roman"/>
              </a:rPr>
              <a:t>Lesson 17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9900ff"/>
                </a:solidFill>
                <a:latin typeface="Times New Roman"/>
              </a:rPr>
              <a:t>Always you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0528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hension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 What’s your aunt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What is sh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How old is sh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Does she often appear on the stage as a young gir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What will she have to do so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 How old  will she pretend to b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 What colour dress must she w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 What kind of stockings must she w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 Did she appear in a play last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 She had to wear short socks, didn’t sh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 Do most women of thirty-five wear clothes like t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 Do peopole ever ask how old she 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9147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tell the 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y aunt---ac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ust---thiry-five---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 spite of---appears---stage---g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ennifer---take part---new play s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is time---girl---sevent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 the play---appear---dress---stock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ast year---play---short socks---coloured 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f ---how old---always answers--- ‘Darling---terrible---grown up!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utline the phrases in the story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t least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至少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起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n spite of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不管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尽管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虽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ppear on the stage as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登台扮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ave to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不得不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必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ake part in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参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 girl of seventeen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一个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7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岁的女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n a bright red dress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穿着鲜红色的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Be grown up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长大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685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y aunt Jennifer is an actress. She must be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at least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irty-five years old.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In spite of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is, she often appears on the stage as a young girl. Jennifer will have to take part in a new play soon. This time, she will be a gilr of seventeen. In the play, she must appear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in a bright red dress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nd long black stockings. Last year in another play, she had to wear short socks and a bright, orange-coloured dress. If anyone ever asks her how old she is, she always answers, ‘Darling, it must be terrible to be grown up! 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533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+(the)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高级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表示“最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Eg. At most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多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least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少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the latest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the earliest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这儿最多有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50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个人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少有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200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人已经走了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There is at most 50 people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least 200 have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我最晚在星期五给你答复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I will give you an answer on Friday at the la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543800" y="83808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42640" y="990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2. In spite of +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名词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=although +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从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went out in spite of the 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We went out although it was r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虽然生病了，可他还是来开会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came to the meeting in spite of his ill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He came to the meeting  although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7162920" y="5486400"/>
            <a:ext cx="738000" cy="81432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814320"/>
              <a:gd name="textAreaBottom" fmla="*/ 766800 h 814320"/>
            </a:gdLst>
            <a:ahLst/>
            <a:rect l="textAreaLeft" t="textAreaTop" r="textAreaRight" b="textAreaBottom"/>
            <a:pathLst>
              <a:path w="21600" h="23833">
                <a:moveTo>
                  <a:pt x="0" y="0"/>
                </a:moveTo>
                <a:lnTo>
                  <a:pt x="21600" y="0"/>
                </a:lnTo>
                <a:lnTo>
                  <a:pt x="21600" y="23833"/>
                </a:lnTo>
                <a:lnTo>
                  <a:pt x="0" y="23833"/>
                </a:lnTo>
                <a:close/>
              </a:path>
              <a:path fill="lightenLess" w="21600" h="238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3">
                <a:moveTo>
                  <a:pt x="21600" y="0"/>
                </a:moveTo>
                <a:lnTo>
                  <a:pt x="21600" y="23833"/>
                </a:lnTo>
                <a:lnTo>
                  <a:pt x="20200" y="22433"/>
                </a:lnTo>
                <a:lnTo>
                  <a:pt x="20200" y="1400"/>
                </a:lnTo>
                <a:close/>
              </a:path>
              <a:path fill="darkenLess" w="21600" h="23833">
                <a:moveTo>
                  <a:pt x="21600" y="23833"/>
                </a:moveTo>
                <a:lnTo>
                  <a:pt x="0" y="23833"/>
                </a:lnTo>
                <a:lnTo>
                  <a:pt x="1400" y="22433"/>
                </a:lnTo>
                <a:lnTo>
                  <a:pt x="20200" y="22433"/>
                </a:lnTo>
                <a:close/>
              </a:path>
              <a:path fill="lighten" w="21600" h="23833">
                <a:moveTo>
                  <a:pt x="0" y="238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3"/>
                </a:lnTo>
                <a:close/>
              </a:path>
              <a:path fill="darken" w="21600" h="23833">
                <a:moveTo>
                  <a:pt x="10800" y="4953"/>
                </a:moveTo>
                <a:lnTo>
                  <a:pt x="13376" y="7564"/>
                </a:lnTo>
                <a:lnTo>
                  <a:pt x="13376" y="5824"/>
                </a:lnTo>
                <a:lnTo>
                  <a:pt x="15152" y="5824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6"/>
                </a:lnTo>
                <a:lnTo>
                  <a:pt x="5491" y="19106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3">
                <a:moveTo>
                  <a:pt x="13376" y="7564"/>
                </a:moveTo>
                <a:lnTo>
                  <a:pt x="13376" y="5824"/>
                </a:lnTo>
                <a:lnTo>
                  <a:pt x="15152" y="5824"/>
                </a:lnTo>
                <a:lnTo>
                  <a:pt x="15152" y="9340"/>
                </a:lnTo>
                <a:close/>
              </a:path>
              <a:path fill="darkenLess" w="21600" h="23833">
                <a:moveTo>
                  <a:pt x="9877" y="15415"/>
                </a:moveTo>
                <a:lnTo>
                  <a:pt x="11723" y="15415"/>
                </a:lnTo>
                <a:lnTo>
                  <a:pt x="11723" y="19106"/>
                </a:lnTo>
                <a:lnTo>
                  <a:pt x="16109" y="19106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6"/>
                </a:lnTo>
                <a:lnTo>
                  <a:pt x="9877" y="191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19320" y="9907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3. In +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颜色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服装 “穿着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新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bride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常穿白衣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rides are usually in wh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街上有很多便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plainclothes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警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are a lot of policemen in plainclothes in the str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穿红衣服的女孩是我妹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girl in red is my sis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543800" y="4952880"/>
            <a:ext cx="738360" cy="81468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814680"/>
              <a:gd name="textAreaBottom" fmla="*/ 767160 h 8146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39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39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45756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Summary writing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My aunt Jennifer is an actress. She is over thirty years old. She often appears on the stage as a young girl. Jennifer will act the part of a girl of seventeen in a new play soon. She never tells anyone how old she really 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08:37:46Z</dcterms:created>
  <dc:creator/>
  <dc:description/>
  <dc:language>en-US</dc:language>
  <cp:lastModifiedBy>class</cp:lastModifiedBy>
  <dcterms:modified xsi:type="dcterms:W3CDTF">2002-10-08T03:04:16Z</dcterms:modified>
  <cp:revision>7</cp:revision>
  <dc:subject/>
  <dc:title>Lesson 17  Always young</dc:title>
</cp:coreProperties>
</file>